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move the slide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472A-1FCE-42C2-85A5-C9208730C7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6790-DAA3-4E4F-84AE-1A00C10853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22A5-610C-491C-9CB8-4A18B1D29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99AB-B915-4202-A33E-A62A2565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518F-C158-4FDC-A314-9B226363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3D2C-D28A-4651-9DA8-10EC6F8C7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27C2-241F-47D2-AD46-6757C25AE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9085-F732-4AA9-9577-E38F380EF1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DF55-DE9E-4825-A87A-C67B825D99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AE72-1CEE-460B-9596-FD304C24D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AAD9-9F54-41A6-BF70-C11A89F58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EF53-C567-4F53-8FCF-CB64595C4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B12D-2E7A-401E-8F94-D0D199CB6D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722D-D415-4A89-A93A-92589C8C7C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A7E4-2F0A-4983-BAD9-058FE99233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AC6E-89A0-4E20-A00A-351753AAAF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B7F1-37D1-4A0A-9873-7688F82174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DEB3-E3A5-4472-9FAB-FA60663D53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6ED2-BD52-4ED7-9344-A0B359F6B9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CEB3-D6B5-4630-B8A4-2A3C0C9B4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1FE6-B2D1-4B6B-AA8F-9BACFBC5C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C4DA-7721-40AA-B387-DC71A928C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B310-0242-4E03-813A-8F4EF9795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8B7D-8180-41F2-A16F-55D581394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D9ED-CBE2-4FFD-A241-51A4C384C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D525-869F-4DBD-9F2C-3F9517CF7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99C-8966-4F3A-8BF4-2A01E990AB1B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5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528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8A8C-BECF-455F-9C68-0150005466D3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1" descr=""/>
          <p:cNvPicPr/>
          <p:nvPr/>
        </p:nvPicPr>
        <p:blipFill>
          <a:blip r:embed="rId3"/>
          <a:stretch/>
        </p:blipFill>
        <p:spPr>
          <a:xfrm>
            <a:off x="0" y="4869000"/>
            <a:ext cx="9144000" cy="200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46" name="Grafik 3" descr=""/>
          <p:cNvPicPr/>
          <p:nvPr/>
        </p:nvPicPr>
        <p:blipFill>
          <a:blip r:embed="rId4"/>
          <a:stretch/>
        </p:blipFill>
        <p:spPr>
          <a:xfrm>
            <a:off x="7042320" y="5807160"/>
            <a:ext cx="1777680" cy="93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073-2035-4D40-8333-776D0F33178F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8436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7559-9DF0-4510-8088-199079806A88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058840"/>
            <a:ext cx="8459640" cy="1322640"/>
          </a:xfrm>
          <a:prstGeom prst="rect">
            <a:avLst/>
          </a:prstGeom>
          <a:noFill/>
          <a:ln w="0">
            <a:noFill/>
          </a:ln>
        </p:spPr>
        <p:txBody>
          <a:bodyPr lIns="72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Aus- und Weiterbildung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Kurseröffn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3700440"/>
            <a:ext cx="3205080" cy="449280"/>
          </a:xfrm>
          <a:prstGeom prst="rect">
            <a:avLst/>
          </a:prstGeom>
          <a:solidFill>
            <a:srgbClr val="e4002d">
              <a:alpha val="85000"/>
            </a:srgbClr>
          </a:solidFill>
          <a:ln w="0">
            <a:noFill/>
          </a:ln>
        </p:spPr>
        <p:txBody>
          <a:bodyPr lIns="720000" rIns="180000" tIns="108000" bIns="1080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MS"/>
              </a:rPr>
              <a:t>AMS NÖ - Förderung</a:t>
            </a:r>
            <a:endParaRPr b="0" lang="en-US" sz="15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5148360" y="30996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MS"/>
                <a:ea typeface="Arial"/>
              </a:rPr>
              <a:t>Arbeitsmarktservice NÖ</a:t>
            </a:r>
            <a:endParaRPr b="1" lang="en-US" sz="16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9360" y="4149720"/>
            <a:ext cx="34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MS"/>
                <a:ea typeface="Arial"/>
              </a:rPr>
              <a:t>&gt;&gt;Jänner 2023&lt;&lt;</a:t>
            </a:r>
            <a:endParaRPr b="1" lang="en-US" sz="13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Kursabschlus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1A1-AAAA-493A-BC66-E1F3087DB08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34760" y="2276280"/>
            <a:ext cx="77374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Um Ihre Geldleistung auch nach dem Abschluss Ihres Kurses zu sichern, sprechen Sie bitte zum vereinbarten Termin vor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keinen Termin haben, bitte umgehend –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 spätestens am Tag nach Kursende - bei Ihrer AMS-Geschäftsstelle vorsprech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	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Teilnahme/Zertifik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Sie erhalten nach Abschluss </a:t>
            </a:r>
            <a:br>
              <a:rPr sz="2800"/>
            </a:b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Ihrer Aus- und Weiterbildung eine schriftliche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Teilnahmebestätigung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 oder ein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Abschlusszertifikat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7F2-076E-4F81-89D3-7D695E15FEDC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Teilnahmezufriedenhei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4760" y="2060280"/>
            <a:ext cx="773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ie erhalten umgehend nach Kursende den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Link zur Teilnahmezufriedenheit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(per eAMS Konto, E-Mail oder SMS)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Es ist sehr wichtig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dass Sie diese anonyme Umfrage beantworten! Nur so können wir die Qualität unserer Angebote verbessern.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Ihr Feedback kann beeinflussen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ob der Kurs in dieser Form weiterhin angeboten wird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E8C-C785-49E3-8D33-5B9C08DA131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lles Gute!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213336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1585"/>
                </a:solidFill>
                <a:latin typeface="AMS"/>
              </a:rPr>
              <a:t>Wir wünschen Ihnen für Ihren Kursbesuch und für Ihre berufliche Zukunft viel Erfolg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71585"/>
                </a:solidFill>
                <a:latin typeface="AMS"/>
              </a:rPr>
              <a:t>Ihr </a:t>
            </a: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Arbeitsmarktservice Niederösterreich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2CCA-3A1F-465E-8E1A-F177EDE3723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MS NÖ - 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0" name="Foliennummernplatzhalter 1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188A-EADA-4EB0-84BA-DF8F7B88D5C8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us- und Weiterbildung verbessert Ihre Chancen am Arbeitsmarkt!</a:t>
            </a:r>
            <a:br>
              <a:rPr sz="2400"/>
            </a:b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71585"/>
                </a:solidFill>
                <a:latin typeface="AMS"/>
              </a:rPr>
              <a:t>Herzlich Willkommen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zum Kurs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Aus- bzw. Weiterbildung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 mit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Bildungsträger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Ansprechpartner_inn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für Hilfestellungen während der Teilnahme</a:t>
            </a:r>
            <a:br>
              <a:rPr sz="2200"/>
            </a:b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Trainerin/Ihr Trainer vor Or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AMS-Kursbetreuer_in (siehe Plakate “Ihre Meinung ist uns wichtig!”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Beraterin/Ihr Berater via eAMS Konto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D88-3A4F-4F48-A370-6855D0E369B3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120" y="1844280"/>
            <a:ext cx="77374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Ausbildungs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Die Kosten für Ihre Aus- und Weiterbildung werden vom AMS Niederösterreich übernomm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Individualförderung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z.B.: Existenzsicherung, Kinderbetreuung, Reise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nehmen Sie umgehend mit Ihrem_r AMS-Berater_in Kontakt auf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A9A9-2814-42D0-8B7A-B0C3C19CB1A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7729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antra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32BA-27A3-427A-B163-D125688DC3FC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205000"/>
            <a:ext cx="773748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Falls Sie für Ihren Kursbesuch noch keinen Förderantrag (Begehren) gestellt haben, so tun Sie dies bitte umgehend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Sie können diesen am einfachsten über Ihr eAMS - Konto stellen. Ihr_e Trainer_in unterstützt Sie gerne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sich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Versicherung während Ihres Kursbesuchs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Ihre Sozialversicherung enthält: 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Unfall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Kranken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71585"/>
                </a:solidFill>
                <a:latin typeface="AMS"/>
              </a:rPr>
              <a:t>Nur bei Anspruch auf Leistungen nach AlVG oder AMSG.</a:t>
            </a:r>
            <a:endParaRPr b="0" lang="en-US" sz="16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DF9-8934-4B24-A27E-FD8F8EDA504D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bwesenheit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2060640"/>
            <a:ext cx="773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Jede Abwesenheit muss bis spätestens 09:00 Uhr</a:t>
            </a:r>
            <a:br>
              <a:rPr sz="2000"/>
            </a:b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bei Ihrem Kursinstitut gemeldet werden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 &gt;&gt;</a:t>
            </a:r>
            <a:r>
              <a:rPr b="0" lang="en-GB" sz="2000" spc="-1" strike="noStrike">
                <a:solidFill>
                  <a:srgbClr val="ff0000"/>
                </a:solidFill>
                <a:latin typeface="AMS"/>
              </a:rPr>
              <a:t>Telefonnummer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Für jede Abwesenheit ist eine schriftliche Bestätigung erforderlich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Arztbestätigungen ab dem ersten Tag Krankenstand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Rückmeldung nach einem Krankenstand umgehend und nur im Kurs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Nicht entschuldigte Abwesenheiten führen zum Verlust Ihres Leistungsbezuges!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18D-9062-4BC7-AABE-4FDD468A67B4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Bewerbung während des Kursbesuch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Eigene Stellensuche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llejob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eJobroom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_e Trainer_in unterstützt Sie gerne bei Jobrecherchen, Lebenslauf und Bewerbung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248-225B-4170-8BAD-2499FC75A4D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Weiterbildung nach diesem Kur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Der Besuch eines Folge-Kurses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ist nur in Absprache mit Ihren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MS-Berater_innen möglich.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 (AMS Weiterbildungsdatenbank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9EF-1426-4DE6-ACEB-3DCFA966661D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6:52:04Z</dcterms:created>
  <dc:creator>Clara Kobler</dc:creator>
  <dc:description/>
  <dc:language>en-US</dc:language>
  <cp:lastModifiedBy>Arbnor Selimi</cp:lastModifiedBy>
  <cp:lastPrinted>2008-11-24T09:28:01Z</cp:lastPrinted>
  <dcterms:modified xsi:type="dcterms:W3CDTF">2023-02-10T07:32:33Z</dcterms:modified>
  <cp:revision>154</cp:revision>
  <dc:subject/>
  <dc:title>PowerPoint-Präsentation</dc:title>
</cp:coreProperties>
</file>