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3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2d"/>
                </a:solidFill>
                <a:latin typeface="AMS"/>
              </a:rPr>
              <a:t>Click to move the slide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4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5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F822-6113-4794-9C5D-F2907CA8E7B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FD44-A92D-42EA-9E51-F16705A4341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6999-BF11-4B74-B027-FD5DCF002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CDB3-8B27-422D-B6F7-E31A044A3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F84E-E948-4444-AECC-C71117340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088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700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476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5088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700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B088-3B9F-48AE-8B06-FDE9820B3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44120" y="7729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0B051-83DA-43CC-8A9A-A000FB401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5088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700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3476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5088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700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64D1-7029-45ED-992F-C0D13D4EE8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A84EA-22E2-4A8D-AC59-A56CB2AAD9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FFFB7-0CB6-458E-A50F-15A838C949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04588-FD2F-4B10-8841-3CCA3E79F9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9CA32-E98A-4EEC-A073-03A3BB197F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009B-2E1E-42C0-B098-0FBB3E7A0C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4120" y="7729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EAA2A-D47F-4F83-B05A-E743A35EC4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7CA0B-DE5D-4DF1-A655-8C0408A8CD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2A04A-7D0E-47CC-B54A-459C2205DB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C5636-D145-4322-A779-B6CED363FE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1EFBA-970B-4EAD-BDF0-AC3C58E0A6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C3D37-0C02-46A4-A8E6-76FEA8F263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5088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6700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3476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5088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6700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816F9-F9AE-4778-A55D-3290ACFD1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3648-2B2A-4961-B9A1-98BA9533F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6B53-0745-4CE5-A493-4AD75E902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4120" y="7729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7298-84BD-4A78-A524-299EFA4C9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5526-8DF4-4ED3-83D5-D59DFA9F9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80D0-096C-40B4-94EE-A199313DC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A892-2F71-4CC5-B049-D161B47ED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afik 2" descr=""/>
          <p:cNvPicPr/>
          <p:nvPr/>
        </p:nvPicPr>
        <p:blipFill>
          <a:blip r:embed="rId2"/>
          <a:stretch/>
        </p:blipFill>
        <p:spPr>
          <a:xfrm>
            <a:off x="-324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2d"/>
                </a:solidFill>
                <a:latin typeface="AMS"/>
              </a:rPr>
              <a:t>Click to edit the title text forma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4f9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Click to edit the outline text format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1" marL="653760" indent="-2512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con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2" marL="1005840" indent="-200880">
              <a:spcBef>
                <a:spcPts val="799"/>
              </a:spcBef>
              <a:buClr>
                <a:srgbClr val="004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Thir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3" marL="1407960" indent="-2008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our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4" marL="1810440" indent="-200880">
              <a:spcBef>
                <a:spcPts val="799"/>
              </a:spcBef>
              <a:buClr>
                <a:srgbClr val="004f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if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ix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ven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4" name="Rectangle 18"/>
          <p:cNvSpPr/>
          <p:nvPr/>
        </p:nvSpPr>
        <p:spPr>
          <a:xfrm>
            <a:off x="7956720" y="6496200"/>
            <a:ext cx="8744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F293-218F-422F-BEC9-9275FAE63D9F}" type="slidenum">
              <a:rPr b="0" lang="de-DE" sz="1400" spc="-1" strike="noStrike">
                <a:solidFill>
                  <a:srgbClr val="ffffff"/>
                </a:solidFill>
                <a:latin typeface="AMS"/>
              </a:rPr>
              <a:t>&lt;number&gt;</a:t>
            </a:fld>
            <a:endParaRPr b="1" lang="en-US" sz="1400" spc="-1" strike="noStrike">
              <a:solidFill>
                <a:srgbClr val="de0000"/>
              </a:solidFill>
              <a:latin typeface="AMS"/>
            </a:endParaRPr>
          </a:p>
        </p:txBody>
      </p:sp>
      <p:pic>
        <p:nvPicPr>
          <p:cNvPr id="5" name="Grafik 3" descr=""/>
          <p:cNvPicPr/>
          <p:nvPr/>
        </p:nvPicPr>
        <p:blipFill>
          <a:blip r:embed="rId3"/>
          <a:stretch/>
        </p:blipFill>
        <p:spPr>
          <a:xfrm>
            <a:off x="7329600" y="6068880"/>
            <a:ext cx="1260360" cy="662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55280" y="6453360"/>
            <a:ext cx="184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F1FD-8DD6-4CAF-95D9-05D4859B0CF6}" type="slidenum">
              <a:rPr b="0" lang="de-A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9" descr=""/>
          <p:cNvPicPr/>
          <p:nvPr/>
        </p:nvPicPr>
        <p:blipFill>
          <a:blip r:embed="rId2"/>
          <a:stretch/>
        </p:blipFill>
        <p:spPr>
          <a:xfrm>
            <a:off x="7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Grafik 11" descr=""/>
          <p:cNvPicPr/>
          <p:nvPr/>
        </p:nvPicPr>
        <p:blipFill>
          <a:blip r:embed="rId3"/>
          <a:stretch/>
        </p:blipFill>
        <p:spPr>
          <a:xfrm>
            <a:off x="0" y="4869000"/>
            <a:ext cx="9144000" cy="2006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8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e0000"/>
              </a:solidFill>
              <a:latin typeface="AMS"/>
            </a:endParaRPr>
          </a:p>
        </p:txBody>
      </p:sp>
      <p:pic>
        <p:nvPicPr>
          <p:cNvPr id="46" name="Grafik 3" descr=""/>
          <p:cNvPicPr/>
          <p:nvPr/>
        </p:nvPicPr>
        <p:blipFill>
          <a:blip r:embed="rId4"/>
          <a:stretch/>
        </p:blipFill>
        <p:spPr>
          <a:xfrm>
            <a:off x="7042320" y="5807160"/>
            <a:ext cx="1777680" cy="934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2d"/>
                </a:solidFill>
                <a:latin typeface="AMS"/>
              </a:rPr>
              <a:t>Click to edit the title text forma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4f9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Click to edit the outline text format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1" marL="653760" indent="-2512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con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2" marL="1005840" indent="-200880">
              <a:spcBef>
                <a:spcPts val="799"/>
              </a:spcBef>
              <a:buClr>
                <a:srgbClr val="004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Thir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3" marL="1407960" indent="-2008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our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4" marL="1810440" indent="-200880">
              <a:spcBef>
                <a:spcPts val="799"/>
              </a:spcBef>
              <a:buClr>
                <a:srgbClr val="004f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if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ix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ven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Grafik 2" descr=""/>
          <p:cNvPicPr/>
          <p:nvPr/>
        </p:nvPicPr>
        <p:blipFill>
          <a:blip r:embed="rId2"/>
          <a:stretch/>
        </p:blipFill>
        <p:spPr>
          <a:xfrm>
            <a:off x="-324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7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7956720" y="6496200"/>
            <a:ext cx="8744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CD2F-72C2-46B6-82FB-3E42C3C258C7}" type="slidenum">
              <a:rPr b="0" lang="de-DE" sz="1400" spc="-1" strike="noStrike">
                <a:solidFill>
                  <a:srgbClr val="ffffff"/>
                </a:solidFill>
                <a:latin typeface="AMS"/>
              </a:rPr>
              <a:t>&lt;number&gt;</a:t>
            </a:fld>
            <a:endParaRPr b="1" lang="en-US" sz="1400" spc="-1" strike="noStrike">
              <a:solidFill>
                <a:srgbClr val="de0000"/>
              </a:solidFill>
              <a:latin typeface="AMS"/>
            </a:endParaRPr>
          </a:p>
        </p:txBody>
      </p:sp>
      <p:pic>
        <p:nvPicPr>
          <p:cNvPr id="88" name="Grafik 3" descr=""/>
          <p:cNvPicPr/>
          <p:nvPr/>
        </p:nvPicPr>
        <p:blipFill>
          <a:blip r:embed="rId3"/>
          <a:stretch/>
        </p:blipFill>
        <p:spPr>
          <a:xfrm>
            <a:off x="7329600" y="6068880"/>
            <a:ext cx="1260360" cy="662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2d"/>
                </a:solidFill>
                <a:latin typeface="AMS"/>
              </a:rPr>
              <a:t>Click to edit the title text forma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4f9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Click to edit the outline text format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1" marL="653760" indent="-2512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con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2" marL="1005840" indent="-200880">
              <a:spcBef>
                <a:spcPts val="799"/>
              </a:spcBef>
              <a:buClr>
                <a:srgbClr val="004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Thir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3" marL="1407960" indent="-2008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our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4" marL="1810440" indent="-200880">
              <a:spcBef>
                <a:spcPts val="799"/>
              </a:spcBef>
              <a:buClr>
                <a:srgbClr val="004f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if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ix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ven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68436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EC63-BD99-4061-A3C0-EF65D63CB745}" type="slidenum">
              <a:rPr b="0" lang="de-A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058840"/>
            <a:ext cx="8459640" cy="1322640"/>
          </a:xfrm>
          <a:prstGeom prst="rect">
            <a:avLst/>
          </a:prstGeom>
          <a:noFill/>
          <a:ln w="0">
            <a:noFill/>
          </a:ln>
        </p:spPr>
        <p:txBody>
          <a:bodyPr lIns="720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MS"/>
              </a:rPr>
              <a:t>Aus- und Weiterbildung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AMS"/>
              </a:rPr>
              <a:t>Kurseröffnun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-360" y="3700440"/>
            <a:ext cx="3205080" cy="449280"/>
          </a:xfrm>
          <a:prstGeom prst="rect">
            <a:avLst/>
          </a:prstGeom>
          <a:solidFill>
            <a:srgbClr val="e4002d">
              <a:alpha val="85000"/>
            </a:srgbClr>
          </a:solidFill>
          <a:ln w="0">
            <a:noFill/>
          </a:ln>
        </p:spPr>
        <p:txBody>
          <a:bodyPr lIns="720000" rIns="180000" tIns="108000" bIns="10800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ffff"/>
                </a:solidFill>
                <a:latin typeface="AMS"/>
              </a:rPr>
              <a:t>AMS NÖ - Förderung</a:t>
            </a:r>
            <a:endParaRPr b="0" lang="en-US" sz="15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37" name="Textfeld 4"/>
          <p:cNvSpPr/>
          <p:nvPr/>
        </p:nvSpPr>
        <p:spPr>
          <a:xfrm>
            <a:off x="5148360" y="309960"/>
            <a:ext cx="34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MS"/>
                <a:ea typeface="Arial"/>
              </a:rPr>
              <a:t>Arbeitsmarktservice NÖ</a:t>
            </a:r>
            <a:endParaRPr b="1" lang="en-US" sz="16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38" name="Textfeld 5"/>
          <p:cNvSpPr/>
          <p:nvPr/>
        </p:nvSpPr>
        <p:spPr>
          <a:xfrm>
            <a:off x="9360" y="4149720"/>
            <a:ext cx="341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MS"/>
                <a:ea typeface="Arial"/>
              </a:rPr>
              <a:t>&gt;&gt;Jänner 2023&lt;&lt;</a:t>
            </a:r>
            <a:endParaRPr b="1" lang="en-US" sz="13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Weiterbildung nach diesem Kurs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1585"/>
                </a:solidFill>
                <a:latin typeface="AMS"/>
              </a:rPr>
              <a:t>Der Besuch eines Folge-Kurses 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1585"/>
                </a:solidFill>
                <a:latin typeface="AMS"/>
              </a:rPr>
              <a:t>ist nur in Absprache mit Ihren 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1585"/>
                </a:solidFill>
                <a:latin typeface="AMS"/>
              </a:rPr>
              <a:t>AMS-Berater_innen möglich.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www.ams.at (AMS Weiterbildungsdatenbank)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65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B4A6-4E9B-4838-8FE6-15C4F91AC582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Kursabschluss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67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E609-DBF7-4115-98A4-2E0C7CF12ED4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34760" y="2276280"/>
            <a:ext cx="773748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271585"/>
                </a:solidFill>
                <a:latin typeface="AMS"/>
              </a:rPr>
              <a:t>Um Ihre Geldleistung auch nach dem Abschluss Ihres Kurses zu sichern, sprechen Sie bitte zum vereinbarten Termin vor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Sollten Sie keinen Termin haben, bitte umgehend –</a:t>
            </a:r>
            <a:r>
              <a:rPr b="0" lang="de-DE" sz="2200" spc="-1" strike="noStrike">
                <a:solidFill>
                  <a:srgbClr val="271585"/>
                </a:solidFill>
                <a:latin typeface="AMS"/>
              </a:rPr>
              <a:t> spätestens am Tag nach Kursende - bei Ihrer AMS-Geschäftsstelle vorsprechen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	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e4002d"/>
                </a:solidFill>
                <a:latin typeface="AMS"/>
              </a:rPr>
              <a:t>Teilnahme/Zertifika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71585"/>
                </a:solidFill>
                <a:latin typeface="AMS"/>
              </a:rPr>
              <a:t>Sie erhalten nach Abschluss </a:t>
            </a:r>
            <a:br>
              <a:rPr sz="2800"/>
            </a:br>
            <a:r>
              <a:rPr b="0" lang="de-AT" sz="2800" spc="-1" strike="noStrike">
                <a:solidFill>
                  <a:srgbClr val="271585"/>
                </a:solidFill>
                <a:latin typeface="AMS"/>
              </a:rPr>
              <a:t>Ihrer Aus- und Weiterbildung eine schriftliche </a:t>
            </a:r>
            <a:r>
              <a:rPr b="1" lang="de-AT" sz="2800" spc="-1" strike="noStrike">
                <a:solidFill>
                  <a:srgbClr val="271585"/>
                </a:solidFill>
                <a:latin typeface="AMS"/>
              </a:rPr>
              <a:t>Teilnahmebestätigung</a:t>
            </a:r>
            <a:r>
              <a:rPr b="0" lang="de-AT" sz="2800" spc="-1" strike="noStrike">
                <a:solidFill>
                  <a:srgbClr val="271585"/>
                </a:solidFill>
                <a:latin typeface="AMS"/>
              </a:rPr>
              <a:t> oder ein </a:t>
            </a:r>
            <a:r>
              <a:rPr b="1" lang="de-AT" sz="2800" spc="-1" strike="noStrike">
                <a:solidFill>
                  <a:srgbClr val="271585"/>
                </a:solidFill>
                <a:latin typeface="AMS"/>
              </a:rPr>
              <a:t>Abschlusszertifikat</a:t>
            </a:r>
            <a:r>
              <a:rPr b="0" lang="de-AT" sz="2800" spc="-1" strike="noStrike">
                <a:solidFill>
                  <a:srgbClr val="271585"/>
                </a:solidFill>
                <a:latin typeface="AMS"/>
              </a:rPr>
              <a:t>!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71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DEB9-CAEB-4B3D-A3C4-2D032A997316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Teilnahmezufriedenhei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34760" y="2060280"/>
            <a:ext cx="7737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Sie erhalten umgehend nach Kursende den </a:t>
            </a:r>
            <a:r>
              <a:rPr b="1" lang="de-AT" sz="2200" spc="-1" strike="noStrike">
                <a:solidFill>
                  <a:srgbClr val="271585"/>
                </a:solidFill>
                <a:latin typeface="AMS"/>
              </a:rPr>
              <a:t>Link zur Teilnahmezufriedenheit</a:t>
            </a: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 (per eAMS Konto, E-Mail oder SMS)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271585"/>
                </a:solidFill>
                <a:latin typeface="AMS"/>
              </a:rPr>
              <a:t>Es ist sehr wichtig</a:t>
            </a:r>
            <a:r>
              <a:rPr b="0" lang="de-DE" sz="2200" spc="-1" strike="noStrike">
                <a:solidFill>
                  <a:srgbClr val="271585"/>
                </a:solidFill>
                <a:latin typeface="AMS"/>
              </a:rPr>
              <a:t>, dass Sie diese anonyme Umfrage beantworten! Nur so können wir die Qualität unserer Angebote verbessern. 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271585"/>
                </a:solidFill>
                <a:latin typeface="AMS"/>
              </a:rPr>
              <a:t>Ihr Feedback kann beeinflussen</a:t>
            </a:r>
            <a:r>
              <a:rPr b="0" lang="de-DE" sz="2200" spc="-1" strike="noStrike">
                <a:solidFill>
                  <a:srgbClr val="271585"/>
                </a:solidFill>
                <a:latin typeface="AMS"/>
              </a:rPr>
              <a:t>, ob der Kurs in dieser Form weiterhin angeboten wird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74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D2F0-403C-436A-BD7B-A38EB5EC222F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Alles Gute!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55280" y="213336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1585"/>
                </a:solidFill>
                <a:latin typeface="AMS"/>
              </a:rPr>
              <a:t>Wir wünschen Ihnen für Ihren Kursbesuch und für Ihre berufliche Zukunft viel Erfolg!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71585"/>
                </a:solidFill>
                <a:latin typeface="AMS"/>
              </a:rPr>
              <a:t>Ihr </a:t>
            </a:r>
            <a:r>
              <a:rPr b="1" lang="de-DE" sz="2400" spc="-1" strike="noStrike">
                <a:solidFill>
                  <a:srgbClr val="271585"/>
                </a:solidFill>
                <a:latin typeface="AMS"/>
              </a:rPr>
              <a:t>Arbeitsmarktservice Niederösterreich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77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A2B1-D41D-4950-8FFD-2EE2D7934439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AMS NÖ - Förderun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40" name="Foliennummernplatzhalter 1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470A-637E-4EBF-9C00-A03A32C4A218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32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1585"/>
                </a:solidFill>
                <a:latin typeface="AMS"/>
              </a:rPr>
              <a:t>Aus- und Weiterbildung verbessert Ihre Chancen am Arbeitsmarkt!</a:t>
            </a:r>
            <a:br>
              <a:rPr sz="2400"/>
            </a:b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71585"/>
                </a:solidFill>
                <a:latin typeface="AMS"/>
              </a:rPr>
              <a:t>Herzlich Willkommen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71585"/>
                </a:solidFill>
                <a:latin typeface="AMS"/>
              </a:rPr>
              <a:t>zum Kurs &gt;&gt;</a:t>
            </a:r>
            <a:r>
              <a:rPr b="0" lang="en-GB" sz="2400" spc="-1" strike="noStrike">
                <a:solidFill>
                  <a:srgbClr val="ff0000"/>
                </a:solidFill>
                <a:latin typeface="AMS"/>
              </a:rPr>
              <a:t>Aus- bzw. Weiterbildung</a:t>
            </a:r>
            <a:r>
              <a:rPr b="0" lang="en-GB" sz="2400" spc="-1" strike="noStrike">
                <a:solidFill>
                  <a:srgbClr val="271585"/>
                </a:solidFill>
                <a:latin typeface="AMS"/>
              </a:rPr>
              <a:t>&lt;&lt; mit &gt;&gt;</a:t>
            </a:r>
            <a:r>
              <a:rPr b="0" lang="en-GB" sz="2400" spc="-1" strike="noStrike">
                <a:solidFill>
                  <a:srgbClr val="ff0000"/>
                </a:solidFill>
                <a:latin typeface="AMS"/>
              </a:rPr>
              <a:t>Bildungsträger</a:t>
            </a:r>
            <a:r>
              <a:rPr b="0" lang="en-GB" sz="2400" spc="-1" strike="noStrike">
                <a:solidFill>
                  <a:srgbClr val="271585"/>
                </a:solidFill>
                <a:latin typeface="AMS"/>
              </a:rPr>
              <a:t>&lt;&lt;.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e4002d"/>
                </a:solidFill>
                <a:latin typeface="AMS"/>
              </a:rPr>
              <a:t>Ansprechpartner_innen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71585"/>
                </a:solidFill>
                <a:latin typeface="AMS"/>
              </a:rPr>
              <a:t>für Hilfestellungen während der Teilnahme</a:t>
            </a:r>
            <a:br>
              <a:rPr sz="2200"/>
            </a:b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Ihre Trainerin/Ihr Trainer vor Ort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AMS-Kursbetreuer_in (siehe Plakate “Ihre Meinung ist uns wichtig!”)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Ihre Beraterin/Ihr Berater via eAMS Konto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44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B24A-7E27-484E-9538-656EA8893BA6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Förderun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71120" y="1844280"/>
            <a:ext cx="773748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71585"/>
                </a:solidFill>
                <a:latin typeface="AMS"/>
              </a:rPr>
              <a:t>Ausbildungskosten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Die Kosten für Ihre Aus- und Weiterbildung werden vom AMS Niederösterreich übernommen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71585"/>
                </a:solidFill>
                <a:latin typeface="AMS"/>
              </a:rPr>
              <a:t>Individualförderungen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z.B.: Existenzsicherung, Kinderbetreuung, Reisekosten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Bitte nehmen Sie umgehend mit Ihrem_r AMS-Berater_in Kontakt auf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CD78-A2A8-4A95-BE97-31032B1F0D41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4480" y="7729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Förderantra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49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EE85-B0BE-4478-B941-73CB5CE2043F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5280" y="2205000"/>
            <a:ext cx="7737480" cy="31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798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Falls Sie für Ihren Kursbesuch noch keinen Förderantrag (Begehren) gestellt haben, so tun Sie dies bitte umgehend!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ts val="3798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Sie können diesen am einfachsten über Ihr eAMS - Konto stellen. Ihr_e Trainer_in unterstützt Sie gerne!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Versicherun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71585"/>
                </a:solidFill>
                <a:latin typeface="AMS"/>
              </a:rPr>
              <a:t>Versicherung während Ihres Kursbesuchs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71585"/>
                </a:solidFill>
                <a:latin typeface="AMS"/>
              </a:rPr>
              <a:t>Ihre Sozialversicherung enthält: 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71585"/>
                </a:solidFill>
                <a:latin typeface="AMS"/>
              </a:rPr>
              <a:t>Unfallversicherung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71585"/>
                </a:solidFill>
                <a:latin typeface="AMS"/>
              </a:rPr>
              <a:t>Krankenversicherung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71585"/>
                </a:solidFill>
                <a:latin typeface="AMS"/>
              </a:rPr>
              <a:t>Nur bei Anspruch auf Leistungen nach AlVG oder AMSG.</a:t>
            </a:r>
            <a:endParaRPr b="0" lang="en-US" sz="16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53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508A-8CDB-44F6-B83D-8B586B827CFB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Abwesenheiten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55280" y="2060640"/>
            <a:ext cx="77374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Jede Abwesenheit muss bis spätestens 09:00 Uhr</a:t>
            </a:r>
            <a:br>
              <a:rPr sz="2000"/>
            </a:b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bei Ihrem Kursinstitut gemeldet werden</a:t>
            </a:r>
            <a:r>
              <a:rPr b="0" lang="en-GB" sz="2000" spc="-1" strike="noStrike">
                <a:solidFill>
                  <a:srgbClr val="271585"/>
                </a:solidFill>
                <a:latin typeface="AMS"/>
              </a:rPr>
              <a:t> &gt;&gt;</a:t>
            </a:r>
            <a:r>
              <a:rPr b="0" lang="en-GB" sz="2000" spc="-1" strike="noStrike">
                <a:solidFill>
                  <a:srgbClr val="ff0000"/>
                </a:solidFill>
                <a:latin typeface="AMS"/>
              </a:rPr>
              <a:t>Telefonnummer</a:t>
            </a:r>
            <a:r>
              <a:rPr b="0" lang="en-GB" sz="2000" spc="-1" strike="noStrike">
                <a:solidFill>
                  <a:srgbClr val="271585"/>
                </a:solidFill>
                <a:latin typeface="AMS"/>
              </a:rPr>
              <a:t>&lt;&lt;.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Für jede Abwesenheit ist eine schriftliche Bestätigung erforderlich.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Arztbestätigungen ab dem ersten Tag Krankenstand.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Rückmeldung nach einem Krankenstand umgehend und nur im Kurs.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Nicht entschuldigte Abwesenheiten führen zum Verlust Ihres Leistungsbezuges!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F67E-5D04-40F1-A2A4-72FB312C9F76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Bewerbung während des Kursbesuchs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71585"/>
                </a:solidFill>
                <a:latin typeface="AMS"/>
              </a:rPr>
              <a:t>Eigene Stellensuche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www.allejobs.at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eJobroom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www.ams.at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Ihr_e Trainer_in unterstützt Sie gerne bei Jobrecherchen, Lebenslauf und Bewerbung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59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7A20-6BF4-45F0-8F26-2E8C9092D2EF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Vermittlun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Sollten Sie </a:t>
            </a:r>
            <a:r>
              <a:rPr b="1" lang="de-AT" sz="2200" spc="-1" strike="noStrike">
                <a:solidFill>
                  <a:srgbClr val="271585"/>
                </a:solidFill>
                <a:latin typeface="AMS"/>
              </a:rPr>
              <a:t>Vermittlungsvorschläge</a:t>
            </a: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 </a:t>
            </a:r>
            <a:r>
              <a:rPr b="1" lang="de-AT" sz="2200" spc="-1" strike="noStrike">
                <a:solidFill>
                  <a:srgbClr val="271585"/>
                </a:solidFill>
                <a:latin typeface="AMS"/>
              </a:rPr>
              <a:t>während des Kursbesuches vom AMS </a:t>
            </a: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erhalten, wenden Sie sich gerne an die Trainer_innen.  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 marL="343080" indent="-343080"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 marL="343080" indent="-343080"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Bitte unbedingt die </a:t>
            </a:r>
            <a:r>
              <a:rPr b="0" lang="de-AT" sz="2200" spc="-1" strike="noStrike" u="sng">
                <a:solidFill>
                  <a:srgbClr val="271585"/>
                </a:solidFill>
                <a:uFillTx/>
                <a:latin typeface="AMS"/>
              </a:rPr>
              <a:t>Bewerbungsfrist</a:t>
            </a: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 </a:t>
            </a: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beachten</a:t>
            </a: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!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 marL="343080" indent="-343080"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71585"/>
                </a:solidFill>
                <a:latin typeface="AMS"/>
              </a:rPr>
              <a:t>Wir unterstützen Sie gerne bei allen Fragen rund um Ihre Bewerbung!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62" name="Foliennummernplatzhalter 3"/>
          <p:cNvSpPr/>
          <p:nvPr/>
        </p:nvSpPr>
        <p:spPr>
          <a:xfrm>
            <a:off x="755640" y="6453360"/>
            <a:ext cx="184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1FDE-83EE-4C00-ACB5-DF25F4233707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6:52:04Z</dcterms:created>
  <dc:creator>Clara Kobler</dc:creator>
  <dc:description/>
  <dc:language>en-US</dc:language>
  <cp:lastModifiedBy>Arbnor Selimi</cp:lastModifiedBy>
  <cp:lastPrinted>2008-11-24T09:28:01Z</cp:lastPrinted>
  <dcterms:modified xsi:type="dcterms:W3CDTF">2023-02-10T07:32:44Z</dcterms:modified>
  <cp:revision>156</cp:revision>
  <dc:subject/>
  <dc:title>PowerPoint-Präsentation</dc:title>
</cp:coreProperties>
</file>